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890-F714-4343-8E22-CE915F8D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1A8-E5DC-45D2-8CD8-EA51F0BC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F67-14D5-430A-83F3-D944FDE6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1A0-CE7D-4DBA-B0AF-EE1460B2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4BE-0CA0-4B1C-A79B-630AE7C8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E7F-0808-42A1-8666-7F7CF117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158-28AC-48AA-9FF8-BFAD675C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A32-D6C2-493E-805E-F0F33663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8C1-FBC5-42D0-8DC7-03334913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F66-5819-411F-B96D-BECBE79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613-B3CC-4F25-879E-AB2804F3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F90-A40F-4BA8-A597-247C40D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30A4-FAEE-4214-A5C6-D261503EAA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y the wor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d (part of spee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fo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d (part of spee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word (part of spee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d -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about the wor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ontext of a text we are us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yond the context of the tex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reason for using the word in part b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positive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negative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pts students to make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/Fal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base word to a different part of spee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uses by different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 ev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2:55:30Z</dcterms:created>
  <dc:creator>lcarpenter</dc:creator>
  <dc:description/>
  <dc:language>en-US</dc:language>
  <cp:lastModifiedBy>lcarpenter</cp:lastModifiedBy>
  <dcterms:modified xsi:type="dcterms:W3CDTF">2012-03-15T19:27:54Z</dcterms:modified>
  <cp:revision>5</cp:revision>
  <dc:subject/>
  <dc:title>accurate</dc:title>
</cp:coreProperties>
</file>